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3.pct" ContentType="image/x-pict"/>
  <Override PartName="/ppt/media/image9.png" ContentType="image/png"/>
  <Override PartName="/ppt/media/image16.png" ContentType="image/png"/>
  <Override PartName="/ppt/media/image14.pct" ContentType="image/x-pict"/>
  <Override PartName="/ppt/media/image1.png" ContentType="image/png"/>
  <Override PartName="/ppt/media/image2.pct" ContentType="image/x-pict"/>
  <Override PartName="/ppt/media/image5.png" ContentType="image/png"/>
  <Override PartName="/ppt/media/image8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12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7B8-9BBB-4D95-B3FF-12134E8131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027-CB80-4779-8790-EDCE9250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3F06-0217-4E0B-8C04-E6793D2A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50E-E20C-4B90-9A30-68D43E6F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6EA-5F72-4254-8C2C-56F7E60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2FE-ADB9-47DB-8542-629832B1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613-B9E4-4F01-82D1-A407B489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0EE-FCD1-4AC5-A0FA-12A2F4FF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358-35E5-4530-B059-6E1A8E0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913-38C6-458A-BCC8-9C923F6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47D-2B59-4069-B623-DB64DE2C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E79-C7C4-4FB3-8ACE-2E3443E0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B84-5137-4936-99AA-254F5A81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2F5-CFA1-4FC3-9C50-527CEF6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CC3-1CC1-45B7-B9FB-5AC985E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zona K-12 Center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669-F19A-4104-B6AF-CFC374AD9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3"/>
          <a:stretch/>
        </p:blipFill>
        <p:spPr>
          <a:xfrm>
            <a:off x="1828800" y="3200400"/>
            <a:ext cx="1481040" cy="147780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13"/>
          <p:cNvSpPr/>
          <p:nvPr/>
        </p:nvSpPr>
        <p:spPr>
          <a:xfrm rot="10800000">
            <a:off x="3733560" y="3580920"/>
            <a:ext cx="1447560" cy="636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Ideas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9C22-0CDC-4FF3-B66B-86FEE2D02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D95F-34D8-4528-9E07-E32AB67B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138-88A3-457D-AA26-33660BB2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240E-3A5C-4954-9798-4F702948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838080" y="182880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f by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ntroduction on page 1 along with 3 paragraphs on p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9C8-D10C-4B84-9BF4-5A1C1BC3D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600200"/>
          <a:ext cx="7543800" cy="3370320"/>
        </p:xfrm>
        <a:graphic>
          <a:graphicData uri="http://schemas.openxmlformats.org/drawingml/2006/table">
            <a:tbl>
              <a:tblPr/>
              <a:tblGrid>
                <a:gridCol w="1447560"/>
                <a:gridCol w="3581640"/>
                <a:gridCol w="25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Numbered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System, Order and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idence, Models and Expla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Change, Constancy and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olution and 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Form and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B88A-D516-4C74-8C88-35305742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 of th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235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205740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Summarize the key ideas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2C8-FE8C-4B9E-9187-2A943050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fting a Unifying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600200" y="3352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raft a matchbook definition of 10-12 words capturing the key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your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e prepared to share with the who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mknuck\Local Settings\Temporary Internet Files\Content.IE5\SL4CNW5K\MCj03511960000[1].wmf"/>
          <p:cNvPicPr/>
          <p:nvPr/>
        </p:nvPicPr>
        <p:blipFill>
          <a:blip r:embed="rId2"/>
          <a:stretch/>
        </p:blipFill>
        <p:spPr>
          <a:xfrm>
            <a:off x="3505320" y="2057400"/>
            <a:ext cx="1371600" cy="9986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79F-3560-4F56-B5F8-39BA6129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xtBox 15" descr=""/>
          <p:cNvPicPr/>
          <p:nvPr/>
        </p:nvPicPr>
        <p:blipFill>
          <a:blip r:embed="rId2"/>
          <a:stretch/>
        </p:blipFill>
        <p:spPr>
          <a:xfrm>
            <a:off x="1822320" y="1822320"/>
            <a:ext cx="5346720" cy="318312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0CFC-FDA2-4D52-9C9B-0D559B02F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0840"/>
          <a:ext cx="8229600" cy="6402240"/>
        </p:xfrm>
        <a:graphic>
          <a:graphicData uri="http://schemas.openxmlformats.org/drawingml/2006/table">
            <a:tbl>
              <a:tblPr/>
              <a:tblGrid>
                <a:gridCol w="219600"/>
                <a:gridCol w="2388960"/>
                <a:gridCol w="2571120"/>
                <a:gridCol w="3049920"/>
              </a:tblGrid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2576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90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Group 23"/>
          <p:cNvGrpSpPr/>
          <p:nvPr/>
        </p:nvGrpSpPr>
        <p:grpSpPr>
          <a:xfrm>
            <a:off x="203040" y="2924280"/>
            <a:ext cx="8407080" cy="1169640"/>
            <a:chOff x="203040" y="2924280"/>
            <a:chExt cx="8407080" cy="1169640"/>
          </a:xfrm>
        </p:grpSpPr>
        <p:grpSp>
          <p:nvGrpSpPr>
            <p:cNvPr id="137" name="Group 35"/>
            <p:cNvGrpSpPr/>
            <p:nvPr/>
          </p:nvGrpSpPr>
          <p:grpSpPr>
            <a:xfrm>
              <a:off x="203040" y="2924280"/>
              <a:ext cx="8407080" cy="1169640"/>
              <a:chOff x="203040" y="2924280"/>
              <a:chExt cx="8407080" cy="1169640"/>
            </a:xfrm>
          </p:grpSpPr>
          <p:sp>
            <p:nvSpPr>
              <p:cNvPr id="138" name="Rectangle 36"/>
              <p:cNvSpPr/>
              <p:nvPr/>
            </p:nvSpPr>
            <p:spPr>
              <a:xfrm>
                <a:off x="203040" y="3013200"/>
                <a:ext cx="7608240" cy="97704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7"/>
              <p:cNvSpPr/>
              <p:nvPr/>
            </p:nvSpPr>
            <p:spPr>
              <a:xfrm rot="5400000">
                <a:off x="7585920" y="3069720"/>
                <a:ext cx="1169640" cy="878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38"/>
            <p:cNvSpPr/>
            <p:nvPr/>
          </p:nvSpPr>
          <p:spPr>
            <a:xfrm>
              <a:off x="609120" y="322704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203040" y="4135320"/>
            <a:ext cx="8432280" cy="1169640"/>
            <a:chOff x="203040" y="4135320"/>
            <a:chExt cx="8432280" cy="1169640"/>
          </a:xfrm>
        </p:grpSpPr>
        <p:grpSp>
          <p:nvGrpSpPr>
            <p:cNvPr id="142" name="Group 29"/>
            <p:cNvGrpSpPr/>
            <p:nvPr/>
          </p:nvGrpSpPr>
          <p:grpSpPr>
            <a:xfrm>
              <a:off x="203040" y="4135320"/>
              <a:ext cx="8432280" cy="1169640"/>
              <a:chOff x="203040" y="4135320"/>
              <a:chExt cx="8432280" cy="1169640"/>
            </a:xfrm>
          </p:grpSpPr>
          <p:sp>
            <p:nvSpPr>
              <p:cNvPr id="143" name="Rectangle 30"/>
              <p:cNvSpPr/>
              <p:nvPr/>
            </p:nvSpPr>
            <p:spPr>
              <a:xfrm>
                <a:off x="203040" y="4224240"/>
                <a:ext cx="7631280" cy="97704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1"/>
              <p:cNvSpPr/>
              <p:nvPr/>
            </p:nvSpPr>
            <p:spPr>
              <a:xfrm rot="5400000">
                <a:off x="7610040" y="4279680"/>
                <a:ext cx="11696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39"/>
            <p:cNvSpPr/>
            <p:nvPr/>
          </p:nvSpPr>
          <p:spPr>
            <a:xfrm>
              <a:off x="711000" y="443808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161645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161645"/>
                  </a:solidFill>
                  <a:latin typeface="Arial"/>
                </a:rPr>
                <a:t>History and Nature of Sc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203040" y="5348160"/>
            <a:ext cx="8432280" cy="1211040"/>
            <a:chOff x="203040" y="5348160"/>
            <a:chExt cx="8432280" cy="1211040"/>
          </a:xfrm>
        </p:grpSpPr>
        <p:grpSp>
          <p:nvGrpSpPr>
            <p:cNvPr id="147" name="Group 32"/>
            <p:cNvGrpSpPr/>
            <p:nvPr/>
          </p:nvGrpSpPr>
          <p:grpSpPr>
            <a:xfrm>
              <a:off x="203040" y="5348160"/>
              <a:ext cx="8432280" cy="1211040"/>
              <a:chOff x="203040" y="5348160"/>
              <a:chExt cx="8432280" cy="1211040"/>
            </a:xfrm>
          </p:grpSpPr>
          <p:sp>
            <p:nvSpPr>
              <p:cNvPr id="148" name="Rectangle 33"/>
              <p:cNvSpPr/>
              <p:nvPr/>
            </p:nvSpPr>
            <p:spPr>
              <a:xfrm>
                <a:off x="203040" y="5439960"/>
                <a:ext cx="7631280" cy="1011600"/>
              </a:xfrm>
              <a:prstGeom prst="rect">
                <a:avLst/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34"/>
              <p:cNvSpPr/>
              <p:nvPr/>
            </p:nvSpPr>
            <p:spPr>
              <a:xfrm rot="5400000">
                <a:off x="7589160" y="5513040"/>
                <a:ext cx="12110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40"/>
            <p:cNvSpPr/>
            <p:nvPr/>
          </p:nvSpPr>
          <p:spPr>
            <a:xfrm>
              <a:off x="711000" y="565092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203040" y="1712880"/>
            <a:ext cx="8432280" cy="1109160"/>
            <a:chOff x="203040" y="1712880"/>
            <a:chExt cx="8432280" cy="1109160"/>
          </a:xfrm>
        </p:grpSpPr>
        <p:grpSp>
          <p:nvGrpSpPr>
            <p:cNvPr id="152" name="Group 43"/>
            <p:cNvGrpSpPr/>
            <p:nvPr/>
          </p:nvGrpSpPr>
          <p:grpSpPr>
            <a:xfrm>
              <a:off x="203040" y="1712880"/>
              <a:ext cx="8432280" cy="1109160"/>
              <a:chOff x="203040" y="1712880"/>
              <a:chExt cx="8432280" cy="1109160"/>
            </a:xfrm>
          </p:grpSpPr>
          <p:sp>
            <p:nvSpPr>
              <p:cNvPr id="153" name="Rectangle 44"/>
              <p:cNvSpPr/>
              <p:nvPr/>
            </p:nvSpPr>
            <p:spPr>
              <a:xfrm>
                <a:off x="203040" y="1797120"/>
                <a:ext cx="7631280" cy="9266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rot="5400000">
                <a:off x="7640280" y="1827000"/>
                <a:ext cx="110916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47"/>
            <p:cNvSpPr/>
            <p:nvPr/>
          </p:nvSpPr>
          <p:spPr>
            <a:xfrm>
              <a:off x="2032920" y="201528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04920" y="1611360"/>
            <a:ext cx="7619760" cy="5756400"/>
            <a:chOff x="304920" y="1611360"/>
            <a:chExt cx="7619760" cy="5756400"/>
          </a:xfrm>
        </p:grpSpPr>
        <p:sp>
          <p:nvSpPr>
            <p:cNvPr id="157" name="AutoShape 48"/>
            <p:cNvSpPr/>
            <p:nvPr/>
          </p:nvSpPr>
          <p:spPr>
            <a:xfrm>
              <a:off x="304920" y="1611360"/>
              <a:ext cx="7619760" cy="5756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 rot="2314200">
              <a:off x="2039040" y="3667320"/>
              <a:ext cx="431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2FC5-97F0-4C1E-BFBF-20F2AA7D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38080" y="15238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 science topic is taught is more important than the topic it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Understanding concepts in science is more than learning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951-3199-41C6-AD10-02F7BF15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2C0-FA5D-4ECD-B802-2B661AB3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540160" y="198360"/>
            <a:ext cx="6146640" cy="3837240"/>
          </a:xfrm>
          <a:prstGeom prst="downArrowCallout">
            <a:avLst>
              <a:gd name="adj1" fmla="val 42245"/>
              <a:gd name="adj2" fmla="val 4583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4309-DB24-4D95-9AC5-2BE496E0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762120" y="129528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Is teaching students to only name the parts of a plant teaching the big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could you structure instruction on plants so that you are teaching to a big idea or id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947A-2143-43FF-8877-B1D738DF6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A3E-CE8A-4DDC-BC1E-F2CF4B068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2540160" y="298440"/>
            <a:ext cx="6146640" cy="3332160"/>
          </a:xfrm>
          <a:prstGeom prst="downArrowCallout">
            <a:avLst>
              <a:gd name="adj1" fmla="val 42260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540160" y="3732120"/>
            <a:ext cx="6146640" cy="2924280"/>
          </a:xfrm>
          <a:prstGeom prst="downArrowCallout">
            <a:avLst>
              <a:gd name="adj1" fmla="val 48154"/>
              <a:gd name="adj2" fmla="val 52227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5F9-4D97-48FC-90BB-9611A295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33520" y="121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Think of your choice of a Big Idea to teach, what theme might be appropri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theme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F8DD-57C0-499E-AD6C-C50AEF3B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457-ECEF-45F9-A611-EED4AFA2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540160" y="198360"/>
            <a:ext cx="6146640" cy="2422440"/>
          </a:xfrm>
          <a:prstGeom prst="downArrowCallout">
            <a:avLst>
              <a:gd name="adj1" fmla="val 58130"/>
              <a:gd name="adj2" fmla="val 63046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438280" y="2722680"/>
            <a:ext cx="6147000" cy="2019240"/>
          </a:xfrm>
          <a:prstGeom prst="downArrowCallout">
            <a:avLst>
              <a:gd name="adj1" fmla="val 69741"/>
              <a:gd name="adj2" fmla="val 7564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438280" y="4843440"/>
            <a:ext cx="6147000" cy="1859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1BB-CC59-4F0F-90A7-369BD3C8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 flipH="1" rot="10800000">
            <a:off x="304560" y="198360"/>
            <a:ext cx="14731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031840" y="198360"/>
            <a:ext cx="6807240" cy="646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0AEE-C517-4A7D-AF64-3576CBD6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33520" y="1219320"/>
            <a:ext cx="7391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ased on your choice of a big idea and theme to teach, what might be a powerful connection to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mathematics focus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585A-B55A-44F2-9281-E79F7B62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nthesizing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 3"/>
          <p:cNvSpPr/>
          <p:nvPr/>
        </p:nvSpPr>
        <p:spPr>
          <a:xfrm>
            <a:off x="2171880" y="1852560"/>
            <a:ext cx="4800600" cy="3000600"/>
          </a:xfrm>
          <a:prstGeom prst="pie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781360" y="3948120"/>
            <a:ext cx="125280" cy="123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2843280" y="4010040"/>
            <a:ext cx="1119240" cy="866880"/>
            <a:chOff x="2843280" y="4010040"/>
            <a:chExt cx="1119240" cy="866880"/>
          </a:xfrm>
        </p:grpSpPr>
        <p:sp>
          <p:nvSpPr>
            <p:cNvPr id="213" name="Rectangle 24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6"/>
          <p:cNvSpPr/>
          <p:nvPr/>
        </p:nvSpPr>
        <p:spPr>
          <a:xfrm>
            <a:off x="3882960" y="3132000"/>
            <a:ext cx="225360" cy="225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3371760" y="3376440"/>
            <a:ext cx="2400480" cy="1368720"/>
            <a:chOff x="3371760" y="3376440"/>
            <a:chExt cx="2400480" cy="1368720"/>
          </a:xfrm>
        </p:grpSpPr>
        <p:sp>
          <p:nvSpPr>
            <p:cNvPr id="217" name="Rectangle 22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18"/>
          <p:cNvSpPr/>
          <p:nvPr/>
        </p:nvSpPr>
        <p:spPr>
          <a:xfrm>
            <a:off x="5448240" y="2614680"/>
            <a:ext cx="312840" cy="312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5335560" y="2919240"/>
            <a:ext cx="1636920" cy="2086200"/>
            <a:chOff x="5335560" y="2919240"/>
            <a:chExt cx="1636920" cy="2086200"/>
          </a:xfrm>
        </p:grpSpPr>
        <p:sp>
          <p:nvSpPr>
            <p:cNvPr id="221" name="Rectangle 20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5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D7E-41CF-474D-80D1-7C8EEB60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182880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4DC-789A-4508-A425-021EFFD1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C507-F21F-47AC-BC38-BB5355B6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3581280" y="2666880"/>
            <a:ext cx="1752480" cy="1523880"/>
            <a:chOff x="3581280" y="2666880"/>
            <a:chExt cx="1752480" cy="1523880"/>
          </a:xfrm>
        </p:grpSpPr>
        <p:sp>
          <p:nvSpPr>
            <p:cNvPr id="234" name="Freeform 5"/>
            <p:cNvSpPr/>
            <p:nvPr/>
          </p:nvSpPr>
          <p:spPr>
            <a:xfrm>
              <a:off x="4106520" y="294228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4146120" y="298188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4375800" y="371556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3581280" y="266688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3630960" y="269208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Slide Number Placeholder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DD0-767D-4CDE-B679-271BA0DC1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493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564840" cy="12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3230640"/>
            <a:ext cx="944892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7960" y="4645080"/>
            <a:ext cx="86360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9480" y="54529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3AE5-FDA6-4E8D-9BB3-0A004109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914400" y="1828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students learn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Grou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7807-F853-49C2-A64D-32A775ECB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914400" y="1509840"/>
            <a:ext cx="227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454560" y="1509840"/>
            <a:ext cx="226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994360" y="1509840"/>
            <a:ext cx="2298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116080"/>
          <a:ext cx="7238880" cy="41403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203040" y="198360"/>
            <a:ext cx="1651320" cy="12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7823160" y="198360"/>
            <a:ext cx="96372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B3D-7B73-47A7-9506-38382BD7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838080" y="1447920"/>
            <a:ext cx="678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qu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ing and describi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scientific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science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0F2-28E2-434C-811D-CEF99F49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bout How Students Le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ow People Learn"/>
          <p:cNvPicPr/>
          <p:nvPr/>
        </p:nvPicPr>
        <p:blipFill>
          <a:blip r:embed="rId2"/>
          <a:stretch/>
        </p:blipFill>
        <p:spPr>
          <a:xfrm>
            <a:off x="2057400" y="1676520"/>
            <a:ext cx="156060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ow Students Learn Mathematics"/>
          <p:cNvPicPr/>
          <p:nvPr/>
        </p:nvPicPr>
        <p:blipFill>
          <a:blip r:embed="rId3"/>
          <a:stretch/>
        </p:blipFill>
        <p:spPr>
          <a:xfrm>
            <a:off x="5181480" y="1676520"/>
            <a:ext cx="1517760" cy="2184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7"/>
          <p:cNvSpPr/>
          <p:nvPr/>
        </p:nvSpPr>
        <p:spPr>
          <a:xfrm>
            <a:off x="1523880" y="419112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books.nap.edu/catalog/98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www.nap.edu/books/0309089492/ht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2A8-5AD0-42E5-95A2-C94ED9F1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523880" y="4191120"/>
            <a:ext cx="609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905120" y="2286000"/>
            <a:ext cx="48765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Fish is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Leo Lio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B9E-4937-4084-B5F2-5AE172071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3:47Z</dcterms:created>
  <dc:creator>CC</dc:creator>
  <dc:description/>
  <dc:language>en-US</dc:language>
  <cp:lastModifiedBy>Taryl Hargens</cp:lastModifiedBy>
  <cp:lastPrinted>2009-05-26T19:43:40Z</cp:lastPrinted>
  <dcterms:modified xsi:type="dcterms:W3CDTF">2009-05-26T19:51:55Z</dcterms:modified>
  <cp:revision>38</cp:revision>
  <dc:subject/>
  <dc:title>PowerPoint Presentation</dc:title>
</cp:coreProperties>
</file>